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42D-A6A2-4D5B-A9CF-24D0365A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FF7-777C-4A3E-9531-73B117C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EE4-0253-4A4B-8E25-2D21ABD5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AFE-1832-4DAE-BC7A-C505DB8A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941-E557-401D-869C-E4BDF70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BC7-43D9-49F5-8DEB-390E1D2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F81-CC14-4C02-9ED7-5D78F56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5AC-656F-49FF-A2EE-CE84A8B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EF4-997C-4479-9BAA-ADD6E86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F4D-0ED8-41D6-A078-7C11835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50F-C0A2-45B7-AB50-A5D07223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7FF-D36E-4C83-B55E-7B8F782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3D3-5B2E-41D6-B706-0ECAD507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54120"/>
            <a:ext cx="36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 vs. Opi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3640" y="1793880"/>
            <a:ext cx="54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nea pigs are born with fur and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nea pigs are the best of all p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2240" y="2895480"/>
            <a:ext cx="79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ne of these sentences is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A fact is something that is known to be  tr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.  Most importantly, a fact can be pro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472428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you prove that a statement is actually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272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ne of these statements can be proven?  Wher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look to prove it?  Can the other sentence be pr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4520" y="171360"/>
            <a:ext cx="82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is example and decide which part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s, and which ones are opin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71560"/>
            <a:ext cx="8750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rder betwee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Canada, the Niagara River drops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 150 feet (46 meters) to form Niagara F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would anyone want to try such a st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going over Niagara in a barrel]?  It’s enough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hrill just to watch that water tumbling ove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9800" y="5302080"/>
            <a:ext cx="68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decide which ones are Fac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which ones are just Opinio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04440" y="933480"/>
            <a:ext cx="601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s              vs.             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609480"/>
            <a:ext cx="8601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xtra credit you may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 chart to list the fact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inions that you find in y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 book tonight for 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you choose to do this assignm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will need to turn in the T char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your examples of facts and opinions tomorrow.  Good Luck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23Z</dcterms:created>
  <dc:creator>User</dc:creator>
  <dc:description/>
  <dc:language>en-US</dc:language>
  <cp:lastModifiedBy>Rutherford County Schools</cp:lastModifiedBy>
  <dcterms:modified xsi:type="dcterms:W3CDTF">2007-04-22T19:59:03Z</dcterms:modified>
  <cp:revision>4</cp:revision>
  <dc:subject/>
  <dc:title>No Slide Title</dc:title>
</cp:coreProperties>
</file>